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5AE-7ECE-4CE1-9C73-433FE759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E06-2985-466F-8D2C-D1E5C14D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46F-40F6-48B8-8ED3-8DA64DF8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F95-0B26-4FED-B565-7A52317C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FAFF-F1CA-4153-924C-EB4D3146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C421-7119-45F2-9932-D65A1D51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1D88-4EBD-4EE2-BFFD-B43334C4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EE36-A584-448D-B97F-B94BC782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B4F2-ABBD-49A5-838F-2983A16A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D4F7-4C66-4D61-8548-B96D1E87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553D-2D1D-43C0-B362-FED233FA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B8D-0E41-45D9-82E3-6B6A656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BE6A-A8BC-4C8C-941A-BA8C57D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6EA1-B09F-411D-954C-815D61DE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73C6-66B7-4CB8-8CFD-0E39A5D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3516-17C1-4899-B41B-27A83545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62F4-563C-4A03-B184-C4BCE4A5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16B-07E4-4392-BBC2-9605B021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6A4-15CE-46DE-B6BF-DBDFACEF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C94-FAA6-4BBC-9F57-CC1ECD8F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0FD-F947-4236-8D1C-D46078F8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9D7-7918-4A93-9FD8-BE1532A0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B40-119C-4E60-8A6C-62DBC909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1FE-B399-4D64-8708-98EF187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1ABA-443E-4476-AB86-4B225018B0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6982-5489-4A87-9EE3-DF1402701B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915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ЛИЧНАЯ ГИГИЕН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41428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ОУ «Лицей № 6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34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должна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жилищ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ще должно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рошо освещенным солнечным с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жно проветрив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осле таких советов, думаю что вы всегда будете здоровыми, чистыми и опрятным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онятие гигие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32400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а в переводе с греческого – целебный, приносящи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2177916_f520"/>
          <p:cNvPicPr/>
          <p:nvPr/>
        </p:nvPicPr>
        <p:blipFill>
          <a:blip r:embed="rId1"/>
          <a:stretch/>
        </p:blipFill>
        <p:spPr>
          <a:xfrm>
            <a:off x="435600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%d0%93%d0%b8%d0%b3%d0%b8%d0%b5%d0%bd%d0%b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кож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кожи ежедневно следует принимать душ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тье - основной вид ухода за кожей, при котором с ее поверхности удаляются пыль, микробы, пот, различные загряз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i"/>
          <p:cNvPicPr/>
          <p:nvPr/>
        </p:nvPicPr>
        <p:blipFill>
          <a:blip r:embed="rId1"/>
          <a:stretch/>
        </p:blipFill>
        <p:spPr>
          <a:xfrm>
            <a:off x="5192640" y="2398680"/>
            <a:ext cx="3640320" cy="26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ьза б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parnaya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x_d3ab18d4"/>
          <p:cNvPicPr/>
          <p:nvPr/>
        </p:nvPicPr>
        <p:blipFill>
          <a:blip r:embed="rId2"/>
          <a:stretch/>
        </p:blipFill>
        <p:spPr>
          <a:xfrm>
            <a:off x="4932360" y="148428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_113"/>
          <p:cNvPicPr/>
          <p:nvPr/>
        </p:nvPicPr>
        <p:blipFill>
          <a:blip r:embed="rId3"/>
          <a:stretch/>
        </p:blipFill>
        <p:spPr>
          <a:xfrm>
            <a:off x="5219640" y="4076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 забудьте и о зуб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5" descr="0_705d6_a7bd8d8f_orig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одеж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17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а соответствовать времени года, характеру работы, не затруднять движения и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Рисунок1"/>
          <p:cNvPicPr/>
          <p:nvPr/>
        </p:nvPicPr>
        <p:blipFill>
          <a:blip r:embed="rId1"/>
          <a:stretch/>
        </p:blipFill>
        <p:spPr>
          <a:xfrm>
            <a:off x="4643280" y="1268280"/>
            <a:ext cx="4032360" cy="254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ost-1291457207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ое хранение продуктов приводит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порче, 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аких продуктов может вызвать пищевые отравления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ружающей нас среде находится множество микроорганизмов, которые п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условиях быстро размножаются. Некоторые 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х способны вырабатывать сильные яды (токсины).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м микроорганизмам относятся плесневые грибы, дрожжи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цион должен быт разнообраз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8:53:30Z</dcterms:created>
  <dc:creator>user</dc:creator>
  <dc:description/>
  <dc:language>en-US</dc:language>
  <cp:lastModifiedBy>Учитель</cp:lastModifiedBy>
  <dcterms:modified xsi:type="dcterms:W3CDTF">2013-05-06T16:48:15Z</dcterms:modified>
  <cp:revision>4</cp:revision>
  <dc:subject/>
  <dc:title>ЛИЧНАЯ ГИГИЕНА</dc:title>
</cp:coreProperties>
</file>